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C55-0467-4301-B193-744C1A89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AE2-FADC-4066-A908-281A9BDA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309-C5DB-4DD6-9486-6A933CBC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12F-F5CB-4B5E-9AB3-5E94A3E1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242-0F55-4643-B2B8-6E0FDB40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1B2-BF23-4EAC-8523-D0680BAE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211-9716-41A9-9F70-59814B7D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787-C045-4908-A340-CB5347A6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86C-68BC-4CB1-B8C6-39E9EB2F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970-5B21-426D-BA2F-C8A3F7B8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023-5B2B-41D0-8B61-86EB1E81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298-D560-44EC-B55B-85E340D7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C29E-B941-4CEA-92D6-0B79097C33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11C7-5327-437C-87B2-A4E4B58EC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od Traditions or Food for Holida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holidaytraditions1.jpg"/>
          <p:cNvPicPr/>
          <p:nvPr/>
        </p:nvPicPr>
        <p:blipFill>
          <a:blip r:embed="rId2"/>
          <a:stretch/>
        </p:blipFill>
        <p:spPr>
          <a:xfrm>
            <a:off x="609480" y="11430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olidaytraditions2.jpg"/>
          <p:cNvPicPr/>
          <p:nvPr/>
        </p:nvPicPr>
        <p:blipFill>
          <a:blip r:embed="rId3"/>
          <a:stretch/>
        </p:blipFill>
        <p:spPr>
          <a:xfrm>
            <a:off x="5029200" y="1295280"/>
            <a:ext cx="3848040" cy="2108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olidaytraditions3.jpg"/>
          <p:cNvPicPr/>
          <p:nvPr/>
        </p:nvPicPr>
        <p:blipFill>
          <a:blip r:embed="rId4"/>
          <a:stretch/>
        </p:blipFill>
        <p:spPr>
          <a:xfrm>
            <a:off x="3962520" y="3809880"/>
            <a:ext cx="16984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9:27:47Z</dcterms:created>
  <dc:creator>teacher</dc:creator>
  <dc:description/>
  <dc:language>en-US</dc:language>
  <cp:lastModifiedBy>PA Department of Education Classrooms for the Future</cp:lastModifiedBy>
  <dcterms:modified xsi:type="dcterms:W3CDTF">2013-02-28T19:39:07Z</dcterms:modified>
  <cp:revision>3</cp:revision>
  <dc:subject/>
  <dc:title>Food Traditions or Food for Holidays</dc:title>
</cp:coreProperties>
</file>